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D98-F2CC-412A-9C50-1831B681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027E-5A3C-4ADA-812A-D77BA9A3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93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39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93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39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40000" y="907920"/>
            <a:ext cx="712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93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39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93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39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40000" y="907920"/>
            <a:ext cx="712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69440" y="0"/>
            <a:ext cx="57456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8569440" y="0"/>
            <a:ext cx="57456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d19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478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478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478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0cf11"/>
                </a:solidFill>
                <a:latin typeface="Arial"/>
              </a:rPr>
              <a:t>Preventing bugs</a:t>
            </a:r>
            <a:br>
              <a:rPr sz="3400"/>
            </a:br>
            <a:r>
              <a:rPr b="1" lang="en-US" sz="3400" spc="-1" strike="noStrike">
                <a:solidFill>
                  <a:srgbClr val="a0cf11"/>
                </a:solidFill>
                <a:latin typeface="Arial"/>
              </a:rPr>
              <a:t>with pluggable type-checking</a:t>
            </a:r>
            <a:endParaRPr b="1" lang="en-US" sz="34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Er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Null dereference checker.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oblem:  NullPointerException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304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bj;   // might be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NonNull Object nnobj; // never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.toString();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.toString();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possible N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 = ...;      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 = obj;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nnobj may become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4941720"/>
            <a:ext cx="4230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null dereference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omparison with other tool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530028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a 4KLO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checking finds all the NPE b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tools also find non-NP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26920" y="2276640"/>
          <a:ext cx="7488360" cy="2952720"/>
        </p:xfrm>
        <a:graphic>
          <a:graphicData uri="http://schemas.openxmlformats.org/drawingml/2006/table">
            <a:tbl>
              <a:tblPr/>
              <a:tblGrid>
                <a:gridCol w="1570320"/>
                <a:gridCol w="1238040"/>
                <a:gridCol w="1440000"/>
                <a:gridCol w="1439640"/>
                <a:gridCol w="180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 pointer err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n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s writ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SR 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B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l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Good defaults reduce user effor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 defa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ated by backward compat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instanc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NonNu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too verb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-sensitive analysis inferred many NonNull types for local variables, reducing annotation bu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Null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verbose in sign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s attention to exceptions rather than the 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nnotations in method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:  Nullable only for loc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for generics on local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ive to type inference; effect may b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Local type inference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(flow-sensitivity)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@Null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/ Date d1, d2, d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1 = new D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1.getMonth();     // OK:  d1 is non-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 d2 !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2.getMonth();     /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d3 != nul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3.getMonth();   /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no need for annotations on local v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6200" y="4311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56200" y="43117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Problem:</a:t>
            </a:r>
            <a:br>
              <a:rPr sz="3000"/>
            </a:b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Java’s type checking is too weak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checking prevents many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i = “42”;   // typ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checking doesn't prevent </a:t>
            </a:r>
            <a:r>
              <a:rPr b="0" lang="en-GB" sz="2400" spc="-1" strike="noStrike">
                <a:solidFill>
                  <a:srgbClr val="ed192d"/>
                </a:solidFill>
                <a:latin typeface="Arial"/>
              </a:rPr>
              <a:t>en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/ possible NullPointerExceptio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etValue().toString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 types cannot express important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-null, interned, immutable, encrypted, tainted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:  </a:t>
            </a:r>
            <a:r>
              <a:rPr b="0" lang="en-GB" sz="2400" spc="-1" strike="noStrike">
                <a:solidFill>
                  <a:srgbClr val="ed192d"/>
                </a:solidFill>
                <a:latin typeface="Arial"/>
              </a:rPr>
              <a:t>plugg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a type system to solve a specific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notate your code with type qual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ype checker warns about violations (bu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ed checker.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Problem:  incorrect equality checks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@Intern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String is, is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 is = myString.intern() ...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is == is2) { ... }        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s == is) { ... }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 = s;         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0920" y="4724280"/>
            <a:ext cx="45370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Interned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nterned case study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:  Daikon (250 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ing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ikon’s key scalability problem is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70 lines of code/comment refer to inte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2% of files have none, 87% have 0, 1, o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 run-time asser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cs plug-in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quality che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4 annotations in 11 files (12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nterned result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ng call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formanc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necessary interning in inner loop of fil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esign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nfoName is not interned within its implementation, but all escaping objec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understand complex inte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false positives (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SuppressW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bserver methods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n expose stat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Object[] getSigners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JDK 1.1 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myClass.getSigners()[0] = “Sun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bserver methods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n expose stat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Object[] getSigners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Fixes JDK 1.1 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myClass.getSigners()[0] = “Sun”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Err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GJ (Immutability Generic Java).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Problem:  unintended side effects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ad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ference immutability (aliases may modi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mmu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Object immutability (object canno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ed by 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uses annotations, not 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619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IGJ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GJ case study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(128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lden bench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parser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nySQL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VNKit subversion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J chec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60 annotations (62133 possible lo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19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ode example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Neighbors of a graph nod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        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GJ case study result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exposur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that left object in inconsist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VNK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etters have 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tters have no 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oth reference and object immu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immutability in new code than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Java syntax for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Annotations on type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annotations in new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ring&gt; my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Graph =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@Immu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ph) tmpGrap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UnmodifiableList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List&lt;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T&gt;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for inclus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va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JSR 308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ly-availabl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wards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onally write annotations in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*@NonNull*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String&gt; myLis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s with any Java 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se studie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che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K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bugs verified by a human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chnical report from September 2007 (better toda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Usability of pluggable checker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54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es to &gt;200,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nd bugs in every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important:  prevents bug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false positiv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rs found the checkers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too verb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@NonNull:  1 per 75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@Interned:  124 annotations in 220KLOC revealed 11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sible to annotate part of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wer annotations in new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reating your own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rs do not ne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unctionality:  mention annotation on javac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rules:  declarative syntax (meta-anno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ules:  override a few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NonNull:  de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nterned:  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perties you can ch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-purpose (tain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-specific (string forma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Your turn to use</a:t>
            </a:r>
            <a:br>
              <a:rPr sz="3000"/>
            </a:b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pluggable type checker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page:  Search for “JSR 308” or “Annotations on Java 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loa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ers:  @NonNull, @Interned, @Readonly, @Imm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erence tools:  NonNull, Read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ers Framework for writing new chec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SR 308 compiler (patch to OpenJDK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forth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event bu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null pointer error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NonNull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        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null pointer error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NonNull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fro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== v)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:  no null 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t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);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:  no null 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incorrect equality test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Interned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Intern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)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incorrect side effect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ReadOnly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body is OK:  no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Using a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notations on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use an inference to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plugin for j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processor NonnullCheck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yFile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additional errors/warn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use it from an IDE (e.g., Eclip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Null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d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J (immutability)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your own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31:12Z</dcterms:created>
  <dc:creator>Klaasjan Tukker</dc:creator>
  <dc:description/>
  <dc:language>en-US</dc:language>
  <cp:lastModifiedBy>Michael Ernst</cp:lastModifiedBy>
  <dcterms:modified xsi:type="dcterms:W3CDTF">2008-04-25T05:10:05Z</dcterms:modified>
  <cp:revision>13</cp:revision>
  <dc:subject/>
  <dc:title>Dia 1</dc:title>
</cp:coreProperties>
</file>