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6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40BD5-893A-484B-BC8E-EED5C1CA3A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81312-C62B-4E3D-B08A-14EB1C4482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86400" cy="402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n’t go too fast in this sequen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F230F-E003-4D68-B063-E221CE3220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n’t go too fast in this sequen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A011C-79BB-4F0D-8D17-6EDE588FEC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ndles supertype modifiers (proper treatment of extends clauses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780CE-AF47-4ED6-9F81-B927FF913C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5A083-F50F-451B-B6FF-94DECD8A5D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verride a metho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in the framewor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 of procedural rules:  for nullness, dereferences; for interning, equality check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checkers have n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AD4B3-B080-4EA8-8F76-8216504404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grammers wish to prevent the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B83A4-A17F-4A2A-A165-88AB8C0954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57B9D-2F10-4D03-BF81-FF54B9E2C5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iel:  Bad segu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DO:  lame title.  Maybe it’s good enoug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CDB3D-5344-44EC-B81C-6A86D7FD28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tch me anytime for a dem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rd to build and maintain, and is too britt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425C2-EF50-4040-BC05-A558B465FB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FC75A-74F5-4CA0-AF8A-C82A8835A9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 these the right key points to mak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other tools also find other bug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st checks are built 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verride a few methods for type ru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clarative syntax for common ca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ype qualifier hierarch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ype introduction ru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mple type systems require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no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co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t sophisticated type systems are possi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F7D3F-E4F4-4609-806A-5A36317056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CF677-6DD4-43F9-9248-1B05C6F234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use this as an outline slide, perhap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12B5C-2AEC-4BB9-890B-F0EC8BB869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rried through to classfi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C4EA9-7A5D-4067-BA06-0917765D2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C5147-6637-4EC7-894D-D5EECEA57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D27FA-4953-4A68-9DE8-8EBE6E059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99CD4-8FB2-4774-A3F7-69328D353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B8EEA-5F98-48B2-81B3-ECD4C677B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006B3-98D8-4AC5-B3F0-CE75F96E5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DE4A7-90DE-4506-81F7-ECE2F4FF8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589A6-3059-45A9-9E00-066115E0D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831A9-00A5-47BA-88F9-E623FDE75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8DDDA-5D9F-43F1-9958-0BDBD10C9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F5C98-3E21-4764-8B2F-AD067994E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CD81B-EF8A-4F8B-A64F-E3A3FB029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936F4-40AE-49C2-9676-19460720A3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pag.csail.mit.edu/jsr308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13012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alibri"/>
              </a:rPr>
              <a:t>Preventing bugs</a:t>
            </a:r>
            <a:br>
              <a:rPr sz="4400"/>
            </a:br>
            <a:r>
              <a:rPr b="1" lang="en-US" sz="4400" spc="-1" strike="noStrike">
                <a:solidFill>
                  <a:srgbClr val="0000ff"/>
                </a:solidFill>
                <a:latin typeface="Calibri"/>
              </a:rPr>
              <a:t>with pluggable type check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14400" y="3886200"/>
            <a:ext cx="73915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ichael Ern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niversity of Washingt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Joint work with Mahmood Ali and Matthew Pap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lded Corner 3"/>
          <p:cNvSpPr/>
          <p:nvPr/>
        </p:nvSpPr>
        <p:spPr>
          <a:xfrm>
            <a:off x="304920" y="304920"/>
            <a:ext cx="3124080" cy="1447560"/>
          </a:xfrm>
          <a:prstGeom prst="foldedCorner">
            <a:avLst>
              <a:gd name="adj" fmla="val 16666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int(</a:t>
            </a:r>
            <a:r>
              <a:rPr b="1" lang="en-US" sz="2000" spc="-1" strike="noStrike" u="sng">
                <a:solidFill>
                  <a:srgbClr val="006600"/>
                </a:solidFill>
                <a:uFillTx/>
                <a:latin typeface="Calibri"/>
              </a:rPr>
              <a:t>@Readonly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Object x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ist&lt;</a:t>
            </a:r>
            <a:r>
              <a:rPr b="1" lang="en-US" sz="2000" spc="-1" strike="noStrike" u="sng">
                <a:solidFill>
                  <a:srgbClr val="006600"/>
                </a:solidFill>
                <a:uFillTx/>
                <a:latin typeface="Calibri"/>
              </a:rPr>
              <a:t>@NonNull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String&gt; ls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alibri"/>
              </a:rPr>
              <a:t>Sample check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ourier New"/>
                <a:ea typeface="Courier New"/>
              </a:rPr>
              <a:t>@NonNull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: null dereferenc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ourier New"/>
                <a:ea typeface="Courier New"/>
              </a:rPr>
              <a:t>@Interned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: incorrect equality test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ourier New"/>
                <a:ea typeface="Courier New"/>
              </a:rPr>
              <a:t>@Immutable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: incorrect mutation and side-effect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Many other simple checker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urity: encryption, tainting, access contro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ncoding: SQL, URL, ASCII/Unico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Under construction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MU, ETH Zurich, MIT, Radboud U., U. of Buenos Aires, U. of California at Los Angeles, U. of Saarland, U. of Washington, U. of Wisconsin, Washington State U., …..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alibri"/>
              </a:rPr>
              <a:t>Using Check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signed as compiler plug-ins (i.e. annotation processo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familiar error messag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66816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% javac -processor </a:t>
            </a:r>
            <a:r>
              <a:rPr b="0" lang="en-US" sz="17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NullnessChecker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 MyFile.java</a:t>
            </a:r>
            <a:br>
              <a:rPr sz="1700"/>
            </a:b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MyFile.java:9: incompatible types.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found   : @Nullable String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required: @NonNull String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nonNull = nullable;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^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4" marL="668160"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alibri"/>
              </a:rPr>
              <a:t>Nullness and mutation dem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alibri"/>
              </a:rPr>
              <a:t>Checkers are effectiv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cales to &gt; 200,000 LO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ach checker found errors in each code base it ran 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erified by a human and fix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alibri"/>
              </a:rPr>
              <a:t>Comparison:  other Nullness too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152280" y="1600200"/>
          <a:ext cx="8839440" cy="3535200"/>
        </p:xfrm>
        <a:graphic>
          <a:graphicData uri="http://schemas.openxmlformats.org/drawingml/2006/table">
            <a:tbl>
              <a:tblPr/>
              <a:tblGrid>
                <a:gridCol w="1981440"/>
                <a:gridCol w="1523880"/>
                <a:gridCol w="1523880"/>
                <a:gridCol w="1676520"/>
                <a:gridCol w="21337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ll pointer erro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lse warning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notations writt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un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ss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ecker framewor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dBug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li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M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1" name="Rectangle 3"/>
          <p:cNvSpPr/>
          <p:nvPr/>
        </p:nvSpPr>
        <p:spPr>
          <a:xfrm>
            <a:off x="380880" y="5300640"/>
            <a:ext cx="838224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hecking a 4KLOC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alse warnings are suppressed via an annotation or asser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alibri"/>
              </a:rPr>
              <a:t>Checkers are featurefu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type systems:  inheritance, overriding, etc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enerics (type polymorphism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qualifier polymorphis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low-sensitive type qualifier infer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Qualifier defa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rning suppres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26880"/>
            <a:ext cx="8231040" cy="10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ff"/>
                </a:solidFill>
                <a:latin typeface="Calibri"/>
              </a:rPr>
              <a:t>Checkers are usab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3104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tegrated with toolchai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1120" indent="-281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javac, Ant, Eclipse, Netbea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Few false positives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Annotations are not too verbo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1120" indent="-281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@NonNull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:  1 per 75 lin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1120" indent="-281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@Interned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:  124 annotations in 220KLOC revealed 11 bug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1120" indent="-281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Possible to annotate part of progra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1120" indent="-281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Fewer annotations in new co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1120" indent="-281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ference tools: nullness, mut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1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alibri"/>
              </a:rPr>
              <a:t>What a checker guarante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program satisfies the type proper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re are no bugs (of particular varieti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veat:  only for code that is check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ive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flec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de compiled without the pluggable type check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ppressed warning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74240" indent="-214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dicates what code a human should analyz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ecking part of a program is still usefu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alibri"/>
              </a:rPr>
              <a:t>Annotating librar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ach checker includes JDK annot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ypically, only for signatures, not bod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nds errors in clients, but not in the library itsel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ference tools for annotating new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alibri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ype qualifi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luggable type check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Writing your own check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alibri"/>
              </a:rPr>
              <a:t>Motivation</a:t>
            </a:r>
            <a:r>
              <a:rPr b="1" lang="en-US" sz="4400" spc="-1" strike="noStrike">
                <a:solidFill>
                  <a:srgbClr val="0000ff"/>
                </a:solidFill>
                <a:latin typeface="Calibri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1830240" y="1419120"/>
            <a:ext cx="5397480" cy="5081760"/>
          </a:xfrm>
          <a:prstGeom prst="rect">
            <a:avLst/>
          </a:prstGeom>
          <a:ln w="0">
            <a:noFill/>
          </a:ln>
        </p:spPr>
      </p:pic>
      <p:sp>
        <p:nvSpPr>
          <p:cNvPr id="53" name="Oval 4"/>
          <p:cNvSpPr/>
          <p:nvPr/>
        </p:nvSpPr>
        <p:spPr>
          <a:xfrm>
            <a:off x="3124080" y="3352680"/>
            <a:ext cx="1067040" cy="2286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Straight Arrow Connector 6"/>
          <p:cNvCxnSpPr/>
          <p:nvPr/>
        </p:nvCxnSpPr>
        <p:spPr>
          <a:xfrm flipV="1">
            <a:off x="3504240" y="3657240"/>
            <a:ext cx="76680" cy="144864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55" name="TextBox 10"/>
          <p:cNvSpPr/>
          <p:nvPr/>
        </p:nvSpPr>
        <p:spPr>
          <a:xfrm>
            <a:off x="3330000" y="5105520"/>
            <a:ext cx="32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java.lang.NullPointerExce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alibri"/>
              </a:rPr>
              <a:t>SQL injection attac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rver code bug:  SQL query constructed using unfiltered user inpu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query = “SELECT * FROM users 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+ “WHERE name=‘” +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userInpu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+ “’;”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r inputs:   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a’ or ‘t’=‘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ult: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query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SELECT * FROM us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HERE name=‘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a’ or ‘t’=‘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’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Query returns information about all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alibri"/>
              </a:rPr>
              <a:t>Tainting check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304560" y="1600200"/>
            <a:ext cx="8839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o use it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rite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@Untainted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in your progra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 getPosts(</a:t>
            </a:r>
            <a:r>
              <a:rPr b="1" lang="en-US" sz="2200" spc="-1" strike="noStrike">
                <a:solidFill>
                  <a:srgbClr val="ff0000"/>
                </a:solidFill>
                <a:latin typeface="Courier New"/>
                <a:ea typeface="Courier New"/>
              </a:rPr>
              <a:t>@Untainted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category) { … 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ompile your progra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javac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-processor BasicChecker -Aquals=Untainted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MyProgram.jav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TextBox 3"/>
          <p:cNvSpPr/>
          <p:nvPr/>
        </p:nvSpPr>
        <p:spPr>
          <a:xfrm>
            <a:off x="410760" y="1523880"/>
            <a:ext cx="7130160" cy="1557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@TypeQualif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@SubtypeOf(Unqualified.cla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@ImplicitFor(trees = {STRING_LITERAL}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@interface Untainted { 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alibri"/>
              </a:rPr>
              <a:t>Tainting checker dem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alibri"/>
              </a:rPr>
              <a:t>Defining a type 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29528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Courier New"/>
                <a:ea typeface="Courier New"/>
              </a:rPr>
              <a:t>@TypeQualifi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@interface </a:t>
            </a:r>
            <a:r>
              <a:rPr b="1" lang="en-US" sz="2200" spc="-1" strike="noStrike">
                <a:solidFill>
                  <a:srgbClr val="ff0000"/>
                </a:solidFill>
                <a:latin typeface="Courier New"/>
                <a:ea typeface="Courier New"/>
              </a:rPr>
              <a:t>NonNull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{ 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alibri"/>
              </a:rPr>
              <a:t>Defining a type 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29528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ype qualifier hierarch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ype introduction r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ther type r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Courier New"/>
                <a:ea typeface="Courier New"/>
              </a:rPr>
              <a:t>@TypeQualifi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@interface </a:t>
            </a:r>
            <a:r>
              <a:rPr b="1" lang="en-US" sz="2200" spc="-1" strike="noStrike">
                <a:solidFill>
                  <a:srgbClr val="ff0000"/>
                </a:solidFill>
                <a:latin typeface="Courier New"/>
                <a:ea typeface="Courier New"/>
              </a:rPr>
              <a:t>NonNull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{ 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"/>
          <p:cNvPicPr/>
          <p:nvPr/>
        </p:nvPicPr>
        <p:blipFill>
          <a:blip r:embed="rId1"/>
          <a:stretch/>
        </p:blipFill>
        <p:spPr>
          <a:xfrm>
            <a:off x="5457960" y="1295280"/>
            <a:ext cx="3457440" cy="305748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alibri"/>
              </a:rPr>
              <a:t>Defining a type 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29528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Type qualifier hierarch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59595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Type introduction r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59595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Other type r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@TypeQualifi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Courier New"/>
                <a:ea typeface="Courier New"/>
              </a:rPr>
              <a:t>@SubtypeOf( Nullable.class 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@interface NonNull { 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alibri"/>
              </a:rPr>
              <a:t>Defining a type 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684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59595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Type qualifier hierarch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Type introduction r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Other type r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@TypeQualifi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@SubtypeOf( Nullable.class 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Courier New"/>
                <a:ea typeface="Courier New"/>
              </a:rPr>
              <a:t>@ImplicitFor(trees={ NEW_CLASS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Courier New"/>
                <a:ea typeface="Courier New"/>
              </a:rPr>
              <a:t>                     </a:t>
            </a:r>
            <a:r>
              <a:rPr b="1" lang="en-US" sz="2200" spc="-1" strike="noStrike">
                <a:solidFill>
                  <a:srgbClr val="ff0000"/>
                </a:solidFill>
                <a:latin typeface="Courier New"/>
                <a:ea typeface="Courier New"/>
              </a:rPr>
              <a:t>PLUS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Courier New"/>
                <a:ea typeface="Courier New"/>
              </a:rPr>
              <a:t>                     </a:t>
            </a:r>
            <a:r>
              <a:rPr b="1" lang="en-US" sz="2200" spc="-1" strike="noStrike">
                <a:solidFill>
                  <a:srgbClr val="ff0000"/>
                </a:solidFill>
                <a:latin typeface="Courier New"/>
                <a:ea typeface="Courier New"/>
              </a:rPr>
              <a:t>BOOLEAN_LITERAL, ... } 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@interface NonNull { 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5579640" y="1828800"/>
            <a:ext cx="3228480" cy="100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Date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 ” + getName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Boolean.TR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alibri"/>
              </a:rPr>
              <a:t>Defining a type 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29528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04000" indent="-504000">
              <a:spcBef>
                <a:spcPts val="799"/>
              </a:spcBef>
              <a:buClr>
                <a:srgbClr val="59595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Type qualifier hierarch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04000" indent="-504000">
              <a:spcBef>
                <a:spcPts val="799"/>
              </a:spcBef>
              <a:buClr>
                <a:srgbClr val="59595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Type introduction r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04000" indent="-50400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Other type r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04000" indent="-50400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04000" indent="-5040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  <a:ea typeface="Courier New"/>
              </a:rPr>
              <a:t>visitSynchronized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SynchronizedTree node) {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04000" indent="-5040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pressionTree expr = node.getExpression(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04000" indent="-5040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AnnotatedTypeMirror type = getAnnotatedType(expr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04000" indent="-5040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  <a:ea typeface="Courier New"/>
              </a:rPr>
              <a:t>if (! type.hasAnnotation(NONNULL)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04000" indent="-5040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hecker.report(Result.failure(...), expr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04000" indent="-5040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3"/>
          <p:cNvSpPr/>
          <p:nvPr/>
        </p:nvSpPr>
        <p:spPr>
          <a:xfrm>
            <a:off x="5731560" y="1371600"/>
            <a:ext cx="3228840" cy="100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ynchronized(expr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4"/>
          <p:cNvSpPr/>
          <p:nvPr/>
        </p:nvSpPr>
        <p:spPr>
          <a:xfrm>
            <a:off x="7270200" y="2819520"/>
            <a:ext cx="141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Warn if expr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may be nu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Straight Arrow Connector 6"/>
          <p:cNvCxnSpPr/>
          <p:nvPr/>
        </p:nvCxnSpPr>
        <p:spPr>
          <a:xfrm flipV="1">
            <a:off x="7466400" y="1675800"/>
            <a:ext cx="381960" cy="114372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alibri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ype qualifi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luggable type check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your own check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alibri"/>
              </a:rPr>
              <a:t>Research 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rst practical system for pluggable typ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s lack held back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research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practi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gnificant case studies led to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ype syste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insights about old on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inear-time inference algorith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e paper “Practical pluggable types for Java” (in ISSTA 2008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alibri"/>
              </a:rPr>
              <a:t>Java’s type checking is too wea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ype checking prevents many bug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35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int i = “hello”;   // type err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ype checking doesn’t prevent </a:t>
            </a:r>
            <a:r>
              <a:rPr b="0" lang="en-GB" sz="3200" spc="-1" strike="noStrike">
                <a:solidFill>
                  <a:srgbClr val="ff0000"/>
                </a:solidFill>
                <a:latin typeface="Calibri"/>
              </a:rPr>
              <a:t>enough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bug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console().readLine(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735480" indent="-339480">
              <a:spcBef>
                <a:spcPts val="601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NullPointerExcep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Collections.emptyList().add(“One”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735480" indent="-339480">
              <a:spcBef>
                <a:spcPts val="601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UnsupportedOperationExcep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alibri"/>
              </a:rPr>
              <a:t>My other researc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Making it </a:t>
            </a:r>
            <a:r>
              <a:rPr b="0" lang="en-GB" sz="2400" spc="-1" strike="noStrike">
                <a:solidFill>
                  <a:srgbClr val="ff0000"/>
                </a:solidFill>
                <a:latin typeface="Calibri"/>
              </a:rPr>
              <a:t>easier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(and more </a:t>
            </a:r>
            <a:r>
              <a:rPr b="0" lang="en-GB" sz="2400" spc="-1" strike="noStrike">
                <a:solidFill>
                  <a:srgbClr val="ff0000"/>
                </a:solidFill>
                <a:latin typeface="Calibri"/>
              </a:rPr>
              <a:t>fun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!) to create reliable softwa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ecurit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nding and exploiting web vulnerabilit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utomatically patching vulnerabilit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Quantitative information-flow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rogramming language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ype systems:  immutability, canonicaliz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ype inference:  abstractions, polymorphism, immutability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esting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reating complex test inpu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enerating unit tests from system tes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assifying test behavi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Mor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 Reproducing in-field failures; combined static &amp; dynamic analysis; analysis of version history; refactoring; 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alibri"/>
              </a:rPr>
              <a:t>Contribu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ecker Framework for creating type check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eatureful, effective, easy to use, scal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event bugs at compile ti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custom type-check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:  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pag.csail.mit.edu/jsr3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3" descr="teddy-bear-clipart.jpg"/>
          <p:cNvPicPr/>
          <p:nvPr/>
        </p:nvPicPr>
        <p:blipFill>
          <a:blip r:embed="rId1"/>
          <a:stretch/>
        </p:blipFill>
        <p:spPr>
          <a:xfrm>
            <a:off x="6858000" y="3035160"/>
            <a:ext cx="2286000" cy="23749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alibri"/>
              </a:rPr>
              <a:t>Problem 2:</a:t>
            </a:r>
            <a:br>
              <a:rPr sz="4400"/>
            </a:br>
            <a:r>
              <a:rPr b="1" lang="en-US" sz="4400" spc="-1" strike="noStrike">
                <a:solidFill>
                  <a:srgbClr val="0000ff"/>
                </a:solidFill>
                <a:latin typeface="Calibri"/>
              </a:rPr>
              <a:t> Implementing pluggable typ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ustom implementation:  har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revious frameworks:  too weak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Hampers </a:t>
            </a:r>
            <a:r>
              <a:rPr b="0" lang="en-US" sz="3000" spc="-1" strike="noStrike">
                <a:solidFill>
                  <a:srgbClr val="ff0000"/>
                </a:solidFill>
                <a:latin typeface="Calibri"/>
              </a:rPr>
              <a:t>use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lang="en-US" sz="3000" spc="-1" strike="noStrike">
                <a:solidFill>
                  <a:srgbClr val="ff0000"/>
                </a:solidFill>
                <a:latin typeface="Calibri"/>
              </a:rPr>
              <a:t>understanding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of type system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lternate evaluation strategie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oundness proof for core calculu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oy exampl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 type system is valuable </a:t>
            </a:r>
            <a:r>
              <a:rPr b="0" lang="en-US" sz="3000" spc="-1" strike="noStrike">
                <a:solidFill>
                  <a:srgbClr val="ff0000"/>
                </a:solidFill>
                <a:latin typeface="Calibri"/>
              </a:rPr>
              <a:t>only if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t helps developers to find and prevent erro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obust implementa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ase stud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You learn a lot!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Oval 4"/>
          <p:cNvSpPr/>
          <p:nvPr/>
        </p:nvSpPr>
        <p:spPr>
          <a:xfrm>
            <a:off x="7010280" y="3276720"/>
            <a:ext cx="1981440" cy="1981080"/>
          </a:xfrm>
          <a:prstGeom prst="ellipse">
            <a:avLst/>
          </a:prstGeom>
          <a:noFill/>
          <a:ln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traight Connector 6"/>
          <p:cNvSpPr/>
          <p:nvPr/>
        </p:nvSpPr>
        <p:spPr>
          <a:xfrm>
            <a:off x="7300800" y="3567240"/>
            <a:ext cx="1400400" cy="1400040"/>
          </a:xfrm>
          <a:prstGeom prst="line">
            <a:avLst/>
          </a:prstGeom>
          <a:ln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Implementing pluggable types</a:t>
            </a:r>
            <a:br>
              <a:rPr sz="4000"/>
            </a:b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for immutabilit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Javari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type system for reference immutabil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OPSLA 2005 paper: 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160KLOC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case stud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IGJ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type system for reference and object immutabil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SE 2007 paper: 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106KLOC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se stud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se studies provided essential preliminary insigh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e have since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learned more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rom larger stud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ilding compilers was tediou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ers are unlikely to use a special-purpose compil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Solution:</a:t>
            </a:r>
            <a:br>
              <a:rPr sz="4000"/>
            </a:b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The Checker Framework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Enables creation of </a:t>
            </a:r>
            <a:r>
              <a:rPr b="0" lang="en-US" sz="3000" spc="-1" strike="noStrike">
                <a:solidFill>
                  <a:srgbClr val="ff0000"/>
                </a:solidFill>
                <a:latin typeface="Calibri"/>
              </a:rPr>
              <a:t>pluggable types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or Jav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Calibri"/>
              </a:rPr>
              <a:t>Expressiv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an create realistic type system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Calibri"/>
              </a:rPr>
              <a:t>Concis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ost checks are built i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eclarative syntax for common cas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Calibri"/>
              </a:rPr>
              <a:t>Scalab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Large program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ull Java languag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Java toolchai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ids </a:t>
            </a:r>
            <a:r>
              <a:rPr b="0" lang="en-US" sz="3000" spc="-1" strike="noStrike">
                <a:solidFill>
                  <a:srgbClr val="ff0000"/>
                </a:solidFill>
                <a:latin typeface="Calibri"/>
              </a:rPr>
              <a:t>programmers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lang="en-US" sz="3000" spc="-1" strike="noStrike">
                <a:solidFill>
                  <a:srgbClr val="ff0000"/>
                </a:solidFill>
                <a:latin typeface="Calibri"/>
              </a:rPr>
              <a:t>type system designe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alibri"/>
              </a:rPr>
              <a:t>Contribu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Syntax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for type qualifiers in Jav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Checker Framework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for writing type check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Checker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ten using the frame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Case studie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abled by the infrastruc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Insight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about the type syste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alibri"/>
              </a:rPr>
              <a:t>Sample type check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Null dereferences (@NonNull, @Nullable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Errors in equality testing (@Interned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Reference immutability (Javari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Reference &amp; object immutability (IGJ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~400 LOC per checke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omparison:  JQual and JavaCOP authors attempted to implement Javar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Only supported 1 out of 5 Javari keyword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ncorrect semantics for method overri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Not usable in practic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Ours was built by a sophomore working part-tim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alibri"/>
              </a:rPr>
              <a:t>Some errors are sil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152280" y="990360"/>
            <a:ext cx="86868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lvl="1" marL="713160" indent="-274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Date date = new Date(0);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myMap.put(date, “Java Epoch”);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date.setYear(70);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myMap.put(date, “Linux Epoch”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Corrupted ma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dbStatement.executeQuery(userInput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UnsupportedOperationExcep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quality tests, initialization, data formatting, 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alibri"/>
              </a:rPr>
              <a:t>Solution:  Pluggable type syste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esign a type system to solve a specific probl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Write type qualifiers in your code (or, type inferenc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@Immutable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  <a:ea typeface="Courier New"/>
              </a:rPr>
              <a:t>Date date = new Date(0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  <a:ea typeface="Helvetica Neue"/>
              </a:rPr>
              <a:t>date.setTime(70);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Helvetica Neue"/>
              </a:rPr>
              <a:t>// compile-time err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ype checker warns about violations (bug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Box 3"/>
          <p:cNvSpPr/>
          <p:nvPr/>
        </p:nvSpPr>
        <p:spPr>
          <a:xfrm>
            <a:off x="403560" y="4267080"/>
            <a:ext cx="82731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% javac </a:t>
            </a:r>
            <a:r>
              <a:rPr b="1" lang="en-GB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-processor NullnessChecker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MyFile.ja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MyFile.java:149: dereference of possibly-null reference bb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llVars = bb2.var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^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alibri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ype qualifi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luggable type check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your own check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Type qualifier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Java 7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annotation synta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@Untainte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tring query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ist&lt;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@NonNu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tring&gt; strings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yGraph = (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@Immutabl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Graph) tmpGraph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class UnmodifiableList&lt;T&gt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implements </a:t>
            </a:r>
            <a:r>
              <a:rPr b="1" lang="en-GB" sz="2400" spc="-1" strike="noStrike">
                <a:solidFill>
                  <a:srgbClr val="ff0000"/>
                </a:solidFill>
                <a:latin typeface="Courier New"/>
              </a:rPr>
              <a:t>@Readonly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 List&lt;</a:t>
            </a:r>
            <a:r>
              <a:rPr b="1" lang="en-GB" sz="2400" spc="-1" strike="noStrike">
                <a:solidFill>
                  <a:srgbClr val="ff0000"/>
                </a:solidFill>
                <a:latin typeface="Courier New"/>
              </a:rPr>
              <a:t>@Readonly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 T&gt; {}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Backward-compatibl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  compile with any Java compil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/*@NonNull*/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&gt; strings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alibri"/>
              </a:rPr>
              <a:t>Benefits of type qualifi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Improve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Find bug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progra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uarantee the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absence of err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id compilers and analysis too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duce the need for assertions and run-time check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alibri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ype qualifi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Pluggable type check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your own check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15T07:20:20Z</dcterms:created>
  <dc:creator> Michael Ernst</dc:creator>
  <dc:description/>
  <dc:language>en-US</dc:language>
  <cp:lastModifiedBy> Michael Ernst</cp:lastModifiedBy>
  <dcterms:modified xsi:type="dcterms:W3CDTF">2009-02-18T05:38:48Z</dcterms:modified>
  <cp:revision>7</cp:revision>
  <dc:subject/>
  <dc:title>Practical pluggable types for Java</dc:title>
</cp:coreProperties>
</file>