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4DA-CC27-4D6F-A429-D94DE47A8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8D51-33AB-473D-8D9E-D4214F44B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439236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12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932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392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932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392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40000" y="907920"/>
            <a:ext cx="712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12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439236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12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932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3920" y="206064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932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3920" y="4392360"/>
            <a:ext cx="2480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40000" y="907920"/>
            <a:ext cx="712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120" y="439236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2060640"/>
            <a:ext cx="37594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392360"/>
            <a:ext cx="7704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a0c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569440" y="0"/>
            <a:ext cx="574560" cy="6858000"/>
          </a:xfrm>
          <a:prstGeom prst="rect">
            <a:avLst/>
          </a:prstGeom>
          <a:solidFill>
            <a:srgbClr val="a0c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a0c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8569440" y="0"/>
            <a:ext cx="574560" cy="6858000"/>
          </a:xfrm>
          <a:prstGeom prst="rect">
            <a:avLst/>
          </a:prstGeom>
          <a:solidFill>
            <a:srgbClr val="a0c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d19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478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478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478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0cf11"/>
                </a:solidFill>
                <a:latin typeface="Arial"/>
              </a:rPr>
              <a:t>Preventing bugs</a:t>
            </a:r>
            <a:br>
              <a:rPr sz="3400"/>
            </a:br>
            <a:r>
              <a:rPr b="1" lang="en-US" sz="3400" spc="-1" strike="noStrike">
                <a:solidFill>
                  <a:srgbClr val="a0cf11"/>
                </a:solidFill>
                <a:latin typeface="Arial"/>
              </a:rPr>
              <a:t>with pluggable type-checking</a:t>
            </a:r>
            <a:endParaRPr b="1" lang="en-US" sz="34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Er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ag.csail.mit.edu/jsr30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Null dereference checker.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oblem:  NullPointerException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3041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bj;   // might be n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@NonNull Object nnobj; // never n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nobj.toString(); //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.toString();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possible N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 = ...;        //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nobj = obj;  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nnobj may become n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4941720"/>
            <a:ext cx="4230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Demo of null dereference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omparison with other tool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530028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a 4KLOC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checking finds all the NPE b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tools also find non-NP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26920" y="2276640"/>
          <a:ext cx="7488360" cy="2952720"/>
        </p:xfrm>
        <a:graphic>
          <a:graphicData uri="http://schemas.openxmlformats.org/drawingml/2006/table">
            <a:tbl>
              <a:tblPr/>
              <a:tblGrid>
                <a:gridCol w="1570320"/>
                <a:gridCol w="1238040"/>
                <a:gridCol w="1440000"/>
                <a:gridCol w="1439640"/>
                <a:gridCol w="1800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 pointer err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n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ions writ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SR 3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B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l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Good defaults reduce user effort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able defa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ctated by backward compat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instanc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@NonNu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too verb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-sensitive analysis inferred many NonNull types for local variables, reducing annotation bu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Null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verbose in sign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s attention to exceptions rather than the r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nnotations in method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ystem:  Nullable only for loca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for generics on local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ive to type inference; effect may b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Local type inference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(flow-sensitivity)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@Null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/ Date d1, d2, d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1 = new Da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1.getMonth();     // OK:  d1 is non-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rt d2 !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2.getMonth();     //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d3 != null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3.getMonth();   //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no need for annotations on local v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49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79640" y="4436640"/>
            <a:ext cx="93672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49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9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56200" y="431172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5516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56200" y="431172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2 = s2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79640" y="4436640"/>
            <a:ext cx="936720" cy="107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56200" y="4311720"/>
            <a:ext cx="23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 = s2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3 = s3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Problem:</a:t>
            </a:r>
            <a:br>
              <a:rPr sz="3000"/>
            </a:b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Java’s type checking is too weak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checking prevents many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i = “42”;   // typ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checking doesn't prevent </a:t>
            </a:r>
            <a:r>
              <a:rPr b="0" lang="en-GB" sz="2400" spc="-1" strike="noStrike">
                <a:solidFill>
                  <a:srgbClr val="ed192d"/>
                </a:solidFill>
                <a:latin typeface="Arial"/>
              </a:rPr>
              <a:t>en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/ possible NullPointerExceptio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getValue().toString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va types cannot express important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n-null, interned, immutable, encrypted, tainted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:  </a:t>
            </a:r>
            <a:r>
              <a:rPr b="0" lang="en-GB" sz="2400" spc="-1" strike="noStrike">
                <a:solidFill>
                  <a:srgbClr val="ed192d"/>
                </a:solidFill>
                <a:latin typeface="Arial"/>
              </a:rPr>
              <a:t>plugg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yp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ign a type system to solve a specific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notate your code with type qualif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ype checker warns about violations (bug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ing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(= canonicalization, hash-consing)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n existing object instead of creating a new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savings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:  use ==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add interning for their ow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85280" y="4214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4360" y="4765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4360" y="53420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4437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60720" y="4264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0720" y="4775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60720" y="534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hel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79640" y="4437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979640" y="4436640"/>
            <a:ext cx="93672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56200" y="4311720"/>
            <a:ext cx="23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= s1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 = s2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= s3.inter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nterned checker.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Problem:  incorrect equality checks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@Interne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String is, is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 is = myString.intern() ...  //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is == is2) { ... }          //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s == is) { ... }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unsafe 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 = s;           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unsaf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0920" y="4724280"/>
            <a:ext cx="45370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Demo of Interned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Interned case study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:  Daikon (250 KL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ing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ikon’s key scalability problem is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70 lines of code/comment refer to inte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2% of files have none, 87% have 0, 1, or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 run-time asser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cs plug-in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quality che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4 annotations in 11 files (12KL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Interned result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ing call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formanc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necessary interning in inner loop of file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design f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nfoName is not interned within its implementation, but all escaping object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understand complex inte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false positives (us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SuppressWarn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712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Observer methods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an expose stat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rivate Object[] signer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Object[] getSigners(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return signers; </a:t>
            </a:r>
            <a:r>
              <a:rPr b="1" lang="en-GB" sz="2300" spc="-1" strike="noStrike">
                <a:solidFill>
                  <a:srgbClr val="ff0000"/>
                </a:solidFill>
                <a:latin typeface="Courier New"/>
              </a:rPr>
              <a:t>// JDK 1.1 bu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myClass.getSigners()[0] = “Sun”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712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Observer methods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an expose stat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rivate Object[] signer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Object[] getSigners(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return signers; </a:t>
            </a:r>
            <a:r>
              <a:rPr b="1" lang="en-GB" sz="2300" spc="-1" strike="noStrike">
                <a:solidFill>
                  <a:srgbClr val="ff0000"/>
                </a:solidFill>
                <a:latin typeface="Courier New"/>
              </a:rPr>
              <a:t>// Fixes JDK 1.1 bu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myClass.getSigners()[0] = “Sun”; </a:t>
            </a:r>
            <a:r>
              <a:rPr b="1" lang="en-GB" sz="2300" spc="-1" strike="noStrike">
                <a:solidFill>
                  <a:srgbClr val="ff0000"/>
                </a:solidFill>
                <a:latin typeface="Courier New"/>
              </a:rPr>
              <a:t>// Err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IGJ (Immutability Generic Java).</a:t>
            </a:r>
            <a:br>
              <a:rPr sz="2600"/>
            </a:br>
            <a:r>
              <a:rPr b="1" lang="en-US" sz="2600" spc="-1" strike="noStrike">
                <a:solidFill>
                  <a:srgbClr val="a0cf11"/>
                </a:solidFill>
                <a:latin typeface="Arial"/>
              </a:rPr>
              <a:t>Problem:  unintended side effects</a:t>
            </a:r>
            <a:endParaRPr b="1" lang="en-US" sz="26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ad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ference immutability (aliases may modi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mmu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Object immutability (object cannot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ired by gene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uses annotations, not gene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619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Demo of IGJ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IGJ case study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(128KL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lden benchma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parser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nySQL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VNKit subversion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J chec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60 annotations (62133 possible lo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19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ode example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Neighbors of a graph nod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&lt;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          Node v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.from() ==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.add(e.to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IGJ case study result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exposur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s that left object in inconsist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VNK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etters have 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etters have no 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oth reference and object immu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immutability in new code than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712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Java syntax for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Annotations on type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 annotations in new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@Non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ring&gt; my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Graph =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@Immu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ph) tmpGrap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UnmodifiableList&lt;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List&lt;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T&gt;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for inclusion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va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JSR 308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ly-availabl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ckwards 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onally write annotations in com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&lt;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*@NonNull*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String&gt; myLis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s with any Java comp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ase studie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che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K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 bugs verified by a human and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echnical report from September 2007 (better toda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40000" y="950760"/>
            <a:ext cx="712944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Usability of pluggable checker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544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es to &gt;200,000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nd bugs in every code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re important:  prevents bug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false positiv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ers found the checkers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too verb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@NonNull:  1 per 75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@Interned:  124 annotations in 220KLOC revealed 11 b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ssible to annotate part of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wer annotations in new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reating your own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rs do not ne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functionality:  mention annotation on javac comma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rules:  declarative syntax (meta-anno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ules:  override a few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NonNull:  de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Interned:  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properties you can che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-purpose (tain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-specific (string format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712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Your turn to use</a:t>
            </a:r>
            <a:br>
              <a:rPr sz="3000"/>
            </a:b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pluggable type checker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page:  Search for “JSR 308” or “Annotations on Java typ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ttp://pag.csail.mit.edu/jsr308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wnloa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ers:  @NonNull, @Interned, @Readonly, @Imm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erence tools:  NonNull, Read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ers Framework for writing new chec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SR 308 compiler (patch to OpenJDK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forth an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revent bu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Checkers Framework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for writing type checker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verride a few methods for special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un’s Tree API to access 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ve syntax for common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qualifier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i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type systems require no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phisticated type systems are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both super- and sub-type qua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type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-sensitive type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-in to Java compiler (a.k.a. annotation process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event null pointer errors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@NonNull type qualifi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&lt;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          Node v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.from() ==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.add(e.to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40000" y="950760"/>
            <a:ext cx="712944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Annotations on Java types (JSR 308)</a:t>
            </a: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‏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0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38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problems with Ja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spcBef>
                <a:spcPts val="700"/>
              </a:spcBef>
              <a:buClr>
                <a:srgbClr val="cc6633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cc66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6633"/>
                </a:solidFill>
                <a:latin typeface="Arial"/>
              </a:rPr>
              <a:t>Syntacti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imitation on ann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99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only be written on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6633"/>
                </a:solidFill>
                <a:latin typeface="Arial"/>
              </a:rPr>
              <a:t>Semanti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imitation of the typ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99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esn't prevent enough bu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8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SR 308 solves these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99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tends Java syntax: permits annotations in more </a:t>
            </a:r>
            <a:r>
              <a:rPr b="0" lang="en-GB" sz="2600" spc="-1" strike="noStrike">
                <a:solidFill>
                  <a:srgbClr val="cc6633"/>
                </a:solidFill>
                <a:latin typeface="Arial"/>
              </a:rPr>
              <a:t>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99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ables creation of more powerful annotation </a:t>
            </a:r>
            <a:r>
              <a:rPr b="0" lang="en-GB" sz="2600" spc="-1" strike="noStrike">
                <a:solidFill>
                  <a:srgbClr val="cc6633"/>
                </a:solidFill>
                <a:latin typeface="Arial"/>
              </a:rPr>
              <a:t>process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40000" y="950760"/>
            <a:ext cx="712944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Synactic problem:  Annotations can only be written on declaration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16360" indent="-216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ackage java.security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Deprecated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class Signer { ...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360" indent="-216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Test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void additionWorks() { assert 1 + 1 == 2;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Override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equals(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urier New"/>
              </a:rPr>
              <a:t>MyClass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other) { ... }  // w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360" indent="-216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CommandLineArg(name="input", required=true)</a:t>
            </a: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rivate String inputFilenam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360" indent="-216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s/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List&lt;Object&gt; objs = ..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SuppressWarnings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List&lt;String&gt; strings = obj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360" indent="-216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 write annotations on </a:t>
            </a:r>
            <a:r>
              <a:rPr b="1" lang="en-GB" sz="2800" spc="-1" strike="noStrike" u="sng">
                <a:solidFill>
                  <a:srgbClr val="cc6633"/>
                </a:solidFill>
                <a:uFillTx/>
                <a:latin typeface="Arial"/>
              </a:rPr>
              <a:t>type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40000" y="950760"/>
            <a:ext cx="712944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Generics and array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0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List&lt;</a:t>
            </a:r>
            <a:r>
              <a:rPr b="1" lang="en-GB" sz="2200" spc="-1" strike="noStrike">
                <a:solidFill>
                  <a:srgbClr val="cc6633"/>
                </a:solidFill>
                <a:latin typeface="Courier New"/>
              </a:rPr>
              <a:t>@NonNull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String&gt; string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UnmodifiableList&lt;T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mplements </a:t>
            </a:r>
            <a:r>
              <a:rPr b="1" lang="en-GB" sz="2200" spc="-1" strike="noStrike">
                <a:solidFill>
                  <a:srgbClr val="cc6633"/>
                </a:solidFill>
                <a:latin typeface="Courier New"/>
              </a:rPr>
              <a:t>@Readonly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List&lt;</a:t>
            </a:r>
            <a:r>
              <a:rPr b="1" lang="en-GB" sz="2200" spc="-1" strike="noStrike">
                <a:solidFill>
                  <a:srgbClr val="cc6633"/>
                </a:solidFill>
                <a:latin typeface="Courier New"/>
              </a:rPr>
              <a:t>@Readonly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T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rays are treated analog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91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parately annotate the element type and the array itsel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40000" y="950760"/>
            <a:ext cx="712944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Local variable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0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11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Interned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String s = getName().intern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NonEmpty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List&lt;String&gt; strings = ..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le to annotate in Java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5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notations are not preserved in the class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40000" y="950760"/>
            <a:ext cx="712944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Casts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03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/ Both variables are null, or neither 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attern startRegex, endRege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f (startRegex != null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ndRegex = (</a:t>
            </a:r>
            <a:r>
              <a:rPr b="1" lang="en-GB" sz="2200" spc="-1" strike="noStrike">
                <a:solidFill>
                  <a:srgbClr val="cc6633"/>
                </a:solidFill>
                <a:latin typeface="Courier New"/>
              </a:rPr>
              <a:t>@NonNull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Pattern) endRege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Graph g = new Graph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/ Now, g will not be changed any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g = (</a:t>
            </a:r>
            <a:r>
              <a:rPr b="1" lang="en-GB" sz="2200" spc="-1" strike="noStrike">
                <a:solidFill>
                  <a:srgbClr val="cc6633"/>
                </a:solidFill>
                <a:latin typeface="Courier New"/>
              </a:rPr>
              <a:t>@Immutable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Graph) 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5084640"/>
            <a:ext cx="9399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630360" indent="-235080">
              <a:lnSpc>
                <a:spcPct val="95000"/>
              </a:lnSpc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1068876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4651200"/>
            <a:ext cx="7772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33520" y="5348160"/>
            <a:ext cx="3314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630360" indent="-235080">
              <a:lnSpc>
                <a:spcPct val="90000"/>
              </a:lnSpc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10688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unSansSemiBold"/>
              </a:rPr>
              <a:t>add nodes and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40000" y="950760"/>
            <a:ext cx="712944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a0cf11"/>
                </a:solidFill>
                <a:latin typeface="Arial"/>
              </a:rPr>
              <a:t>Receiv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0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30400" indent="-230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possible to annotate the explicit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ackage javax.xml.bin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class Marshaller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void marshal(</a:t>
            </a: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Readonly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Object jaxbElemen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Mutable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Writer writer) {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hould be possible to annotate the receiver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ackage javax.xml.bin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class Marshaller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void marshal(@Readonly Object jaxbElemen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@Mutable Writer writer) </a:t>
            </a:r>
            <a:r>
              <a:rPr b="1" lang="en-GB" sz="2600" spc="-1" strike="noStrike">
                <a:solidFill>
                  <a:srgbClr val="cc6633"/>
                </a:solidFill>
                <a:latin typeface="Courier New"/>
              </a:rPr>
              <a:t>@Readonly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{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6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event null pointer errors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@NonNull type qualifi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Non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ode v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fro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== v)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OK:  no null 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t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);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OK:  no null 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event incorrect equality tests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@Interned type qualifi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&lt;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Intern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ode v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.from()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=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v)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.add(e.to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712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Prevent incorrect side effects:</a:t>
            </a:r>
            <a:br>
              <a:rPr sz="3000"/>
            </a:b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@ReadOnly type qualifi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aph&lt;Node, Edg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&lt;Edge&gt; 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ighbors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ode v)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ReadOnl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&lt;Node&gt; neighbors = new LinkedList&lt;Node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dge e : 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.from() ==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ighbors.add(e.to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eighb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body is OK:  no sid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Using a checker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notations on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 use an inference too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 plugin for j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processor NonnullCheck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yFile.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additional errors/warn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use it from an IDE (e.g., Eclip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0cf11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a0cf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Null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d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J (immutability)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your own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9:31:12Z</dcterms:created>
  <dc:creator>Klaasjan Tukker</dc:creator>
  <dc:description/>
  <dc:language>en-US</dc:language>
  <cp:lastModifiedBy>Michael Ernst</cp:lastModifiedBy>
  <dcterms:modified xsi:type="dcterms:W3CDTF">2008-04-25T05:10:56Z</dcterms:modified>
  <cp:revision>12</cp:revision>
  <dc:subject/>
  <dc:title>Dia 1</dc:title>
</cp:coreProperties>
</file>