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95FD-B34B-44B9-A3F3-4528BEF8D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92A2-9181-4019-AD44-0DB149D36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ammers wish to prevent the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F67E-1155-4DD7-9E39-D8AD401FE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build and maintain, and is too brit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O:  Add “no toys” logo with a stuffed anim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B413-7D64-429D-8413-3981C098A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9BB7-36CF-438F-870C-FDB6BACAB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9408-989E-44E4-9F03-FD1B5216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CED2-77A0-4196-96A6-B8BD74A36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C445-7553-47AF-9A86-609CD23C7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458D-BBB9-41B2-861A-4219ED7D6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02F3-E7BE-4588-94F9-0EDEA287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FE60-A8BC-4AD8-A883-88831CDD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B4E59-8BA5-4FDF-B296-32DDD571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7809-DF45-401C-93AE-E56D3E5E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7142-19D7-43EB-8F14-9AF09811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D06D-EAEB-4EC2-9A65-85B4723C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ACA0-3C46-4E89-A513-4E6C5D7E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28EE0-4E80-4863-B15E-70D63815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1E5B-3EFA-487F-9BE7-856DC177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C11F-1AD5-494C-9149-D096F1A8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F95C-0C2F-479C-88A3-7011A3BBA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9122-F1FB-4AC8-A61C-9C2B4D1F3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B23B-CF3C-4DE8-BC6C-D066F980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4654-B04B-406E-B4F4-C9335AC6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FDB5-3247-47CC-BAB6-EF384E38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A656-A2A4-44FD-8C77-5AB44A05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17D3-A378-4611-880D-278AF8D8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44EF-BED0-4081-BF1C-F256A6D0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4969-67DC-4F0D-B194-5A10D9DE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5D85-E847-4A05-A420-582C511F01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B491-6302-4593-BD7A-7BD77F78F4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Building and using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luggable type systems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with the Checker Framework</a:t>
            </a:r>
            <a:br>
              <a:rPr sz="4400"/>
            </a:br>
            <a:endParaRPr b="1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ichael D. Ern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olded Corner 4"/>
          <p:cNvSpPr/>
          <p:nvPr/>
        </p:nvSpPr>
        <p:spPr>
          <a:xfrm>
            <a:off x="304920" y="304920"/>
            <a:ext cx="3047760" cy="1371600"/>
          </a:xfrm>
          <a:prstGeom prst="foldedCorner">
            <a:avLst>
              <a:gd name="adj" fmla="val 16666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nt(</a:t>
            </a:r>
            <a:r>
              <a:rPr b="1" lang="en-US" sz="1800" spc="-1" strike="noStrike" u="sng">
                <a:solidFill>
                  <a:srgbClr val="006600"/>
                </a:solidFill>
                <a:uFillTx/>
                <a:latin typeface="Calibri"/>
              </a:rPr>
              <a:t>@Readonl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bject x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st&lt;</a:t>
            </a:r>
            <a:r>
              <a:rPr b="1" lang="en-US" sz="1800" spc="-1" strike="noStrike" u="sng">
                <a:solidFill>
                  <a:srgbClr val="006600"/>
                </a:solidFill>
                <a:uFillTx/>
                <a:latin typeface="Calibri"/>
              </a:rPr>
              <a:t>@NonNul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tring&gt; l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Demo of Nullness checker</a:t>
            </a:r>
            <a:endParaRPr b="1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Local type refinement (inference)</a:t>
            </a:r>
            <a:endParaRPr b="1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8088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/*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@Nullabl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*/ Date d1, d2, d3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1 = new Date(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1.getMonth();     // OK: d1 is non-nu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ssert d2 != null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2.getMonth();     // O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f (d3 != null) {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3.getMonth();   // O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ten, no annot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ue to type refinement and careful choice of defaul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Comparison:  other Nullness tools</a:t>
            </a:r>
            <a:endParaRPr b="1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5300280"/>
            <a:ext cx="77040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ecking a 4KLOC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e checking finds all the null pointer bug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other tools also find other bu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04920" y="1828800"/>
          <a:ext cx="8686800" cy="3108240"/>
        </p:xfrm>
        <a:graphic>
          <a:graphicData uri="http://schemas.openxmlformats.org/drawingml/2006/table">
            <a:tbl>
              <a:tblPr/>
              <a:tblGrid>
                <a:gridCol w="1752480"/>
                <a:gridCol w="1562040"/>
                <a:gridCol w="1562040"/>
                <a:gridCol w="1676520"/>
                <a:gridCol w="2133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 pointer err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 warnin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otations writt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u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s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SR 3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dBu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l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Interning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(= canonicalization, hash-consing)</a:t>
            </a:r>
            <a:endParaRPr b="1" lang="en-US" sz="40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9912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use an existing object instead of creating a new o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pa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ptimization:  savings can be signific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i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ptimization:  use == for comparis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t in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.lang.Str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n(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rs can add interning for their own cla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385280" y="42148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404360" y="47656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404360" y="534204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7"/>
          <p:cNvSpPr/>
          <p:nvPr/>
        </p:nvSpPr>
        <p:spPr>
          <a:xfrm>
            <a:off x="1979640" y="4437000"/>
            <a:ext cx="93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3060720" y="42642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ll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3060720" y="47750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ll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3060720" y="53452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ll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1"/>
          <p:cNvSpPr/>
          <p:nvPr/>
        </p:nvSpPr>
        <p:spPr>
          <a:xfrm>
            <a:off x="1979640" y="4941720"/>
            <a:ext cx="93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2"/>
          <p:cNvSpPr/>
          <p:nvPr/>
        </p:nvSpPr>
        <p:spPr>
          <a:xfrm>
            <a:off x="1979640" y="5516640"/>
            <a:ext cx="93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3"/>
          <p:cNvSpPr/>
          <p:nvPr/>
        </p:nvSpPr>
        <p:spPr>
          <a:xfrm flipV="1">
            <a:off x="1979640" y="4437000"/>
            <a:ext cx="936720" cy="50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4"/>
          <p:cNvSpPr/>
          <p:nvPr/>
        </p:nvSpPr>
        <p:spPr>
          <a:xfrm flipV="1">
            <a:off x="1979640" y="4436640"/>
            <a:ext cx="936720" cy="1079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Interning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(= canonicalization, hash-consing)</a:t>
            </a:r>
            <a:endParaRPr b="1" lang="en-US" sz="40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9912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use an existing object instead of creating a new o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pa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ptimization:  savings can be signific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i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ptimization:  use == for comparis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t in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.lang.Str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n(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rs can add interning for their own cla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1385280" y="42148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404360" y="47656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1404360" y="534204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"/>
          <p:cNvSpPr/>
          <p:nvPr/>
        </p:nvSpPr>
        <p:spPr>
          <a:xfrm>
            <a:off x="1979640" y="4437000"/>
            <a:ext cx="93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060720" y="42642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ll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3060720" y="47750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ll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3060720" y="53452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ll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1"/>
          <p:cNvSpPr/>
          <p:nvPr/>
        </p:nvSpPr>
        <p:spPr>
          <a:xfrm>
            <a:off x="1979640" y="4941720"/>
            <a:ext cx="93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1979640" y="5516640"/>
            <a:ext cx="93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Interning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(= canonicalization, hash-consing)</a:t>
            </a:r>
            <a:endParaRPr b="1" lang="en-US" sz="40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9912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use an existing object instead of creating a new o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pa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ptimization:  savings can be signific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i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ptimization:  use == for comparis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t in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.lang.Str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n(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rs can add interning for their own cla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385280" y="42148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404360" y="47656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1404360" y="534204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"/>
          <p:cNvSpPr/>
          <p:nvPr/>
        </p:nvSpPr>
        <p:spPr>
          <a:xfrm>
            <a:off x="1979640" y="4437000"/>
            <a:ext cx="9367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060720" y="42642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ll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3060720" y="47750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ll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3060720" y="53452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ll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1"/>
          <p:cNvSpPr/>
          <p:nvPr/>
        </p:nvSpPr>
        <p:spPr>
          <a:xfrm>
            <a:off x="1979640" y="4941720"/>
            <a:ext cx="93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>
            <a:off x="1979640" y="5516640"/>
            <a:ext cx="93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6"/>
          <p:cNvSpPr/>
          <p:nvPr/>
        </p:nvSpPr>
        <p:spPr>
          <a:xfrm>
            <a:off x="5056200" y="4311720"/>
            <a:ext cx="23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1 = s1.intern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Interning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(= canonicalization, hash-consing)</a:t>
            </a:r>
            <a:endParaRPr b="1" lang="en-US" sz="40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9912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use an existing object instead of creating a new o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pa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ptimization:  savings can be signific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i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ptimization:  use == for comparis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t in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.lang.Str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n(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rs can add interning for their own cla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385280" y="42148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404360" y="47656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1404360" y="534204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7"/>
          <p:cNvSpPr/>
          <p:nvPr/>
        </p:nvSpPr>
        <p:spPr>
          <a:xfrm>
            <a:off x="1979640" y="4437000"/>
            <a:ext cx="93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3060720" y="42642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ll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3060720" y="47750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ce1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eeece1"/>
                </a:solidFill>
                <a:latin typeface="Courier New"/>
              </a:rPr>
              <a:t>hell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060720" y="53452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ll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2"/>
          <p:cNvSpPr/>
          <p:nvPr/>
        </p:nvSpPr>
        <p:spPr>
          <a:xfrm>
            <a:off x="1979640" y="5516640"/>
            <a:ext cx="93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3"/>
          <p:cNvSpPr/>
          <p:nvPr/>
        </p:nvSpPr>
        <p:spPr>
          <a:xfrm flipV="1">
            <a:off x="1979640" y="4437000"/>
            <a:ext cx="936720" cy="504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5"/>
          <p:cNvSpPr/>
          <p:nvPr/>
        </p:nvSpPr>
        <p:spPr>
          <a:xfrm>
            <a:off x="5056200" y="4311720"/>
            <a:ext cx="230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1 = s1.intern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2 = s2.intern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Interning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(= canonicalization, hash-consing)</a:t>
            </a:r>
            <a:endParaRPr b="1" lang="en-US" sz="40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9912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use an existing object instead of creating a new o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pa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ptimization:  savings can be signific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i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ptimization:  use == for comparis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t in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.lang.Str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n(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rs can add interning for their own cla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385280" y="42148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1404360" y="47656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1404360" y="534204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7"/>
          <p:cNvSpPr/>
          <p:nvPr/>
        </p:nvSpPr>
        <p:spPr>
          <a:xfrm>
            <a:off x="1979640" y="4437000"/>
            <a:ext cx="93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3060720" y="42642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ll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3060720" y="47750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ce1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eeece1"/>
                </a:solidFill>
                <a:latin typeface="Courier New"/>
              </a:rPr>
              <a:t>hell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3060720" y="53452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ce1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eeece1"/>
                </a:solidFill>
                <a:latin typeface="Courier New"/>
              </a:rPr>
              <a:t>hell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3"/>
          <p:cNvSpPr/>
          <p:nvPr/>
        </p:nvSpPr>
        <p:spPr>
          <a:xfrm flipV="1">
            <a:off x="1979640" y="4437000"/>
            <a:ext cx="936720" cy="50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4"/>
          <p:cNvSpPr/>
          <p:nvPr/>
        </p:nvSpPr>
        <p:spPr>
          <a:xfrm flipV="1">
            <a:off x="1979640" y="4436640"/>
            <a:ext cx="936720" cy="1079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5056200" y="4311720"/>
            <a:ext cx="230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1 = s1.intern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 = s2.intern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3 = s3.intern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Interning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(= canonicalization, hash-consing)</a:t>
            </a:r>
            <a:endParaRPr b="1" lang="en-US" sz="40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9912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use an existing object instead of creating a new o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pa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ptimization:  savings can be signific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i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ptimization:  use == for comparis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t in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.lang.Str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n(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rs can add interning for their own cla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1385280" y="42148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1404360" y="47656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1404360" y="534204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7"/>
          <p:cNvSpPr/>
          <p:nvPr/>
        </p:nvSpPr>
        <p:spPr>
          <a:xfrm>
            <a:off x="1979640" y="4437000"/>
            <a:ext cx="93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3060720" y="42642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ll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3060720" y="47750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ce1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eeece1"/>
                </a:solidFill>
                <a:latin typeface="Courier New"/>
              </a:rPr>
              <a:t>hell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3060720" y="53452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ce1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eeece1"/>
                </a:solidFill>
                <a:latin typeface="Courier New"/>
              </a:rPr>
              <a:t>hell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1"/>
          <p:cNvSpPr/>
          <p:nvPr/>
        </p:nvSpPr>
        <p:spPr>
          <a:xfrm flipV="1">
            <a:off x="1979640" y="4437000"/>
            <a:ext cx="936720" cy="50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"/>
          <p:cNvSpPr/>
          <p:nvPr/>
        </p:nvSpPr>
        <p:spPr>
          <a:xfrm flipV="1">
            <a:off x="1979640" y="4436640"/>
            <a:ext cx="936720" cy="1079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5056200" y="4311720"/>
            <a:ext cx="230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1 = s1.intern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 = s2.intern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3 = s3.intern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Problem:  incorrect equality checks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Solution:  Interning checker</a:t>
            </a:r>
            <a:endParaRPr b="1" lang="en-US" sz="40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4000" y="2060640"/>
            <a:ext cx="7848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s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@Interne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String is, is2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.. is = myString.intern() ...  // O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(is == is2) { ... }          // O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(s == is) { ... } 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// unsafe equal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 = s;              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// unsafe assign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e system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4" descr="interned"/>
          <p:cNvPicPr/>
          <p:nvPr/>
        </p:nvPicPr>
        <p:blipFill>
          <a:blip r:embed="rId1"/>
          <a:stretch/>
        </p:blipFill>
        <p:spPr>
          <a:xfrm>
            <a:off x="2050920" y="4724280"/>
            <a:ext cx="453708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roblem 1: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Java’s type checking is too weak</a:t>
            </a:r>
            <a:endParaRPr b="1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ype checking prevents many bu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nt i = “42”;   // type err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ype checking doesn’t prevent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enough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bu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201240" y="3200400"/>
            <a:ext cx="13576680" cy="126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la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PointerExce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 checkers.util.GraphQualifierHierarchy.isSubtype(GraphQualifierHierarchy.java:2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 checkers.types.QualifierHierarchy.isSubtype(QualifierHierarchy.java:7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 checkers.types.TypeHierarchy.isSubtypeImpl(TypeHierarchy.java:1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 checkers.types.TypeHierarchy.isSubtype(TypeHierarchy.java:6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 checkers.basetype.BaseTypeChecker.isSubtype(BaseTypeChecker.java:30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 checkers.basetype.BaseTypeVisitor.commonAssignmentCheck(BaseTypeVisitor.java:48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 checkers.basetype.BaseTypeVisitor.commonAssignmentCheck(BaseTypeVisitor.java:46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 checkers.basetype.BaseTypeVisitor.checkArguments(BaseTypeVisitor.java:59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 checkers.basetype.BaseTypeVisitor.visitMethodInvocation(BaseTypeVisitor.java:27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 com.sun.tools.javac.tree.JCTree$JCMethodInvocation.accept(JCTree.java:131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 com.sun.source.util.TreePathScanner.scan(TreePathScanner.java:6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 checkers.basetype.BaseTypeVisitor.scan(BaseTypeVisitor.java:1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 com.sun.source.util.TreeScanner.visitExpressionStatement(TreeScanner.java:23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 com.sun.tools.javac.tree.JCTree$JCExpressionStatement.accept(JCTree.java:115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 com.sun.source.util.TreePathScanner.scan(TreePathScanner.java:6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 checkers.basetype.BaseTypeVisitor.scan(BaseTypeVisitor.java:1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 com.sun.source.util.TreeScanner.scanAndReduce(TreeScanner.java:8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 com.sun.source.util.TreeScanner.scan(TreeScanner.java:9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 com.sun.source.util.TreeScanner.visitBlock(TreeScanner.java:15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 com.sun.tools.javac.tree.JCTree$JCBlock.accept(JCTree.java:78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 com.sun.source.util.TreePathScanner.scan(TreePathScanner.java:6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 checkers.basetype.BaseTypeVisitor.scan(BaseTypeVisitor.java:1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 com.sun.source.util.TreeScanner.scanAndReduce(TreeScanner.java:8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 com.sun.source.util.TreeScanner.visitIf(TreeScanner.java:23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 com.sun.tools.javac.tree.JCTree$JCIf.accept(JCTree.java:11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 com.sun.source.util.TreePathScanner.scan(TreePathScanner.java:6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 checkers.basetype.BaseTypeVisitor.scan(BaseTypeVisitor.java:1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 com.sun.source.util.TreeScanner.scanAndReduce(TreeScanner.java:8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 com.sun.source.util.TreeScanner.scan(TreeScanner.java:9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 com.sun.source.util.TreeScanner.visitBlock(TreeScanner.java:15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 com.sun.tools.javac.tree.JCTree$JCBlock.accept(JCTree.java:78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 com.sun.source.util.TreePathScanner.scan(TreePathScanner.java:6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 checkers.basetype.BaseTypeVisitor.scan(BaseTypeVisitor.java:1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 com.sun.source.util.TreeScanner.scanAndReduce(TreeScanner.java:8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 com.sun.source.util.TreeScanner.visitMethod(TreeScanner.java:14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 checkers.basetype.BaseTypeVisitor.visitMethod(BaseTypeVisitor.java:18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 com.sun.tools.javac.tree.JCTree$JCMethodDecl.accept(JCTree.java:68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 com.sun.source.util.TreePathScanner.scan(TreePathScanner.java:6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 checkers.basetype.BaseTypeVisitor.scan(BaseTypeVisitor.java:1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 com.sun.source.util.TreeScanner.scanAndReduce(TreeScanner.java:8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 com.sun.source.util.TreeScanner.scan(TreeScanner.java:9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 com.sun.source.util.TreeScanner.scanAndReduce(TreeScanner.java:9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 com.sun.source.util.TreeScanner.visitClass(TreeScanner.java:1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 checkers.basetype.BaseTypeVisitor.visitClass(BaseTypeVisitor.java:1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 com.sun.tools.javac.tree.JCTree$JCClassDecl.accept(JCTree.java:60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 com.sun.source.util.TreePathScanner.scan(TreePathScanner.java:4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 checkers.source.SourceChecker.process(SourceChecker.java:19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 com.sun.tools.javac.processing.JavacProcessingEnvironment.callProcessor(JavacProcessingEnvironment.java:73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 com.sun.tools.javac.processing.JavacProcessingEnvironment.discoverAndRunProcs(JavacProcessingEnvironment.java:66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 com.sun.tools.javac.processing.JavacProcessingEnvironment.doProcessing(JavacProcessingEnvironment.java:81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 com.sun.tools.javac.main.JavaCompiler.processAnnotations(JavaCompiler.java:100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 com.sun.tools.javac.main.JavaCompiler.compile(JavaCompiler.java:74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 com.sun.tools.javac.main.Main.compile(Main.java:38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 com.sun.tools.javac.main.Main.compile(Main.java:31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 com.sun.tools.javac.main.Main.compile(Main.java:3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 com.sun.tools.javac.Main.compile(Main.java:8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 com.sun.tools.javac.Main.main(Main.java:6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Demo of Interning checker</a:t>
            </a:r>
            <a:endParaRPr b="1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Interning case study</a:t>
            </a:r>
            <a:endParaRPr b="1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am:  Daikon (250 KLO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ing is 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ikon’s key scalability problem is mem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70 lines of code/comment refer to inter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2% of files have none, 87% have 0, 1, or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0 run-time asser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acs plug-in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quality chec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4 annotations in 11 files (12KLO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Interning case study results</a:t>
            </a:r>
            <a:endParaRPr b="1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 err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ssing calls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 performance bu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necessary interning in inner loop of file rea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design fla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rInfoName is not interned within its implementation, but all escaping objects 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o hard to understand complex inter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4 false positives (use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@SuppressWarning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Security code in JDK 1.1</a:t>
            </a:r>
            <a:endParaRPr b="1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2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class Class {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private Object[] signers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Object[] getSigners() {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return signers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Security code in JDK 1.1</a:t>
            </a:r>
            <a:endParaRPr b="1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2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class Class {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private Object[] signers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Object[] getSigners() {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return signers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myClass.getSigners()[0] = “Sun”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Immutability annotations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revent mutation errors</a:t>
            </a:r>
            <a:endParaRPr b="1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2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class Class {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private Object[] signers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600" spc="-1" strike="noStrike">
                <a:solidFill>
                  <a:srgbClr val="008000"/>
                </a:solidFill>
                <a:latin typeface="Courier New"/>
              </a:rPr>
              <a:t>// Prohibits client from muta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600" spc="-1" strike="noStrike" u="sng">
                <a:solidFill>
                  <a:srgbClr val="990099"/>
                </a:solidFill>
                <a:uFillTx/>
                <a:latin typeface="Courier New"/>
              </a:rPr>
              <a:t>@Readonly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 Object[] getSigners() {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return signers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myClass.getSigners()[0] = “Sun”; </a:t>
            </a:r>
            <a:r>
              <a:rPr b="1" lang="en-GB" sz="2600" spc="-1" strike="noStrike">
                <a:solidFill>
                  <a:srgbClr val="ff0000"/>
                </a:solidFill>
                <a:latin typeface="Courier New"/>
              </a:rPr>
              <a:t>// Err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Immutability annotations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revent mutation errors</a:t>
            </a:r>
            <a:endParaRPr b="1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2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class Class {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600" spc="-1" strike="noStrike">
                <a:solidFill>
                  <a:srgbClr val="008000"/>
                </a:solidFill>
                <a:latin typeface="Courier New"/>
              </a:rPr>
              <a:t>// Forces getSigners to return a cop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GB" sz="2600" spc="-1" strike="noStrike" u="sng">
                <a:solidFill>
                  <a:srgbClr val="990099"/>
                </a:solidFill>
                <a:uFillTx/>
                <a:latin typeface="Courier New"/>
              </a:rPr>
              <a:t>@Readonly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 Object[] signers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Object[] getSigners() {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return signers; </a:t>
            </a:r>
            <a:r>
              <a:rPr b="1" lang="en-GB" sz="2600" spc="-1" strike="noStrike">
                <a:solidFill>
                  <a:srgbClr val="ff0000"/>
                </a:solidFill>
                <a:latin typeface="Courier New"/>
              </a:rPr>
              <a:t>// Err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myClass.getSigners()[0] = “Sun”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Problem:  unintended side effects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Solution:  IGJ (Immutability Generic Java)</a:t>
            </a:r>
            <a:endParaRPr b="1" lang="en-US" sz="36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ype syste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adOn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 Reference immutability (aliases may modif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mutab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 Object immutability (object cannot chang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pired by gener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4" descr="igj"/>
          <p:cNvPicPr/>
          <p:nvPr/>
        </p:nvPicPr>
        <p:blipFill>
          <a:blip r:embed="rId1"/>
          <a:stretch/>
        </p:blipFill>
        <p:spPr>
          <a:xfrm>
            <a:off x="4859280" y="3124080"/>
            <a:ext cx="361944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Demo of IGJ checker</a:t>
            </a:r>
            <a:endParaRPr b="1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IGJ case study</a:t>
            </a:r>
            <a:endParaRPr b="1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ams (128KLO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lden benchma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mlparser libr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nySQL libr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VNKit subversion cli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GJ chec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760 annotations (62133 possible loca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roblem 1: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Java’s type checking is too weak</a:t>
            </a:r>
            <a:endParaRPr b="1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ype checking prevents many bu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1316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nt i = “42”;   // type err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ype checking doesn’t prevent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enough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bu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ull derefer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correct equality t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correct mu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QL inj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ivacy vio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isformatted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IGJ case study results</a:t>
            </a:r>
            <a:endParaRPr b="1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resentation exposure err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ors that left object in inconsistent 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SVNKi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getters have side eff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setters have no side eff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both reference and object immut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opportunities for immutability in new code than 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Usability of pluggable checkers</a:t>
            </a:r>
            <a:endParaRPr b="1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4240" indent="-264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cales to &gt;200,000 L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4240" indent="-264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ound bugs in every code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92200" indent="-220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ore important: 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revent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bugs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4240" indent="-264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ew false positives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4240" indent="-264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grammers found the checkers easy to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4240" indent="-264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s it too verbos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92200" indent="-220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@NonNull:  1 per 75 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92200" indent="-220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@Interned:  124 annotations in 220KLOC revealed 11 bu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92200" indent="-220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ssible to annotate part of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92200" indent="-220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ewer annotations in new c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4240" indent="-264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A complete, useful type checker</a:t>
            </a:r>
            <a:endParaRPr b="1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456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@TypeQualifi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@SubtypeOf(Unqualified.cla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@interface Encrypted { 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use i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@Encrypt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your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your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c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-processor BasicChecker -Aquals=Encrypte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ourProgram.j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Creating your own checker</a:t>
            </a:r>
            <a:endParaRPr b="1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users do not need 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ic functionality:  mention annotation on javac command 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ple rules:  declarative syntax (meta-annota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cial rules:  override a few meth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 Nullness:  dereferen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 Interning:  equal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s of properties you can chec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eneral-purpose (taintin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-specific (string formattin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Defining type rules</a:t>
            </a:r>
            <a:endParaRPr b="1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clarative and procedural syntax for type ru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pressive and concis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mon features are built 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typing:  inheritance, overriding, assign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rbitrary type qualifier hierarch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lymorphism over types (Java generic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lymorphism over type qualifi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low-sensitive type qualifier inferen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mplicit and default qualifi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arning suppress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.. see the manual for mo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Who is using the tools?</a:t>
            </a:r>
            <a:endParaRPr b="1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ilding type checker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TH Zurich, Radboud University, MIT, University of Buenos Aires, University of Saarland, Washington State University; others plan 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tegrating with other tool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BM, INRIA, JetBrains, MIT, Oxford, Sun, Victoria University of Wellingt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ing type checker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o many to cou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xt user: 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you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Conclusion</a:t>
            </a:r>
            <a:endParaRPr b="1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hecker Framework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writing type chec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bust, scalable, easy to use, effec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pag.csail.mit.edu/jsr30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 search:  “JSR 308” or “Annotations on Java Type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s sample checkers, extensive docu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ables creation of new type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ields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insigh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to type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ammers  ca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revent bu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Solution: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luggable type systems</a:t>
            </a:r>
            <a:endParaRPr b="1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esign a type system to solve a specific proble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nnotate your code with type qualifi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r, use a type inference too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@NonNull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 d = ...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.getMonth();    // no possible N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ype checker warns about violations (bug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405720" y="4267080"/>
            <a:ext cx="84103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% javac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-processor NullnessChecker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yFile.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yFile.java:149: dereference of possibly-null reference b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ssert vars1.containsAll(bb2.var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teddy-bear-clipart.jpg"/>
          <p:cNvPicPr/>
          <p:nvPr/>
        </p:nvPicPr>
        <p:blipFill>
          <a:blip r:embed="rId1"/>
          <a:stretch/>
        </p:blipFill>
        <p:spPr>
          <a:xfrm>
            <a:off x="6858000" y="3035160"/>
            <a:ext cx="2286000" cy="23749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roblem 2: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 Implementing pluggable types</a:t>
            </a:r>
            <a:endParaRPr b="1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ustom implementation:  har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evious frameworks:  too wea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mpers use and understanding of type syste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ternate evaluation strategi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undness proof for core calcul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y examp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type system is valuable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only if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helps developers to find and prevent err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obust implem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se stud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ou learn a lot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Oval 4"/>
          <p:cNvSpPr/>
          <p:nvPr/>
        </p:nvSpPr>
        <p:spPr>
          <a:xfrm>
            <a:off x="7010280" y="3276720"/>
            <a:ext cx="1981440" cy="1981080"/>
          </a:xfrm>
          <a:prstGeom prst="ellipse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6"/>
          <p:cNvSpPr/>
          <p:nvPr/>
        </p:nvSpPr>
        <p:spPr>
          <a:xfrm>
            <a:off x="7300800" y="3567240"/>
            <a:ext cx="1400400" cy="140004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Solution: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The Checker Framework</a:t>
            </a:r>
            <a:endParaRPr b="1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checks are built 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larative syntax for common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ype qualifier hierarch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ype introduction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ride a few methods for type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e type systems requir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sophisticated type systems are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Tool integration</a:t>
            </a:r>
            <a:endParaRPr b="1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ype qualifiers:  extension to Java annotation syntax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@NonNull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&gt; strings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yGraph = (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@Immuta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Graph) tmpGraph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UnmodifiableList&lt;T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mplements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@Readonl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@Readonl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&gt; {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rried through to classfil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lanned for inclusion in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Java 7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Backward-compatibl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:  compile with any Java compil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st&lt;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/*@NonNull*/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&gt; string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DE support:  javac, Eclipse, Netbeans; IntelliJ plann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ype inference:  3 tools integrated so fa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Sample type checkers</a:t>
            </a:r>
            <a:endParaRPr b="1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ull dereferences (@NonNull, @Nullabl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rrors in equality testing (@Interned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ference immutability (Javari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ference &amp; object immutability (IGJ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asic checker (subtyping, etc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parison:  JQual and JavaCOP authors attempted to build Javari check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nly supported 1 out of 5 type qualifi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correct semantics for method overr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t usable in practi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urs was built by a sophomore working part-ti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roblem:  NullPointerExceptions Solution:  Nullness checker</a:t>
            </a:r>
            <a:endParaRPr b="1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bject obj;   // might be nul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@NonNull Object nnobj; // never nul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nobj.toString(); // O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bj.toString();  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// possible N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bj = ...;        // O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nobj = obj;     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// nnobj may become nul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e system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4" descr="nonnull"/>
          <p:cNvPicPr/>
          <p:nvPr/>
        </p:nvPicPr>
        <p:blipFill>
          <a:blip r:embed="rId1"/>
          <a:stretch/>
        </p:blipFill>
        <p:spPr>
          <a:xfrm>
            <a:off x="2124000" y="4941720"/>
            <a:ext cx="42307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15:09:52Z</dcterms:created>
  <dc:creator> Michael Ernst</dc:creator>
  <dc:description/>
  <dc:language>en-US</dc:language>
  <cp:lastModifiedBy> Michael Ernst</cp:lastModifiedBy>
  <dcterms:modified xsi:type="dcterms:W3CDTF">2008-07-15T07:19:50Z</dcterms:modified>
  <cp:revision>32</cp:revision>
  <dc:subject/>
  <dc:title>Slide 1</dc:title>
</cp:coreProperties>
</file>