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ADD-0CBB-482A-9049-E06DBF8C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131652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232160"/>
            <a:ext cx="131652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FDD-D23B-417F-A43A-E94352FF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792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23216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7920" y="423216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D74-4058-4B01-B16A-5B844651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280" y="17110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4680" y="17110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23216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280" y="423216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4680" y="423216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048-C3E3-46A1-88C0-4D61AFD2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711080"/>
            <a:ext cx="1316520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725-18BC-43EB-99BD-B18CA0B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1316520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180-E97F-42CC-8607-9859DF8C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64245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7920" y="1711080"/>
            <a:ext cx="64245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704-62EA-404D-9C28-8CA4488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921-047F-4CA6-BD44-ADD918D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290160"/>
            <a:ext cx="1316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8EE-F870-455C-948A-91085F1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7920" y="1711080"/>
            <a:ext cx="64245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23216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468-2476-4EA6-AADA-FE8E90C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64245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792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7920" y="423216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7FF-5E23-4F4F-8892-5055958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7920" y="1711080"/>
            <a:ext cx="642456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232160"/>
            <a:ext cx="13165200" cy="230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DEC-43B6-4ACC-A224-70F0901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290160"/>
            <a:ext cx="1316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711080"/>
            <a:ext cx="1316520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6664320"/>
            <a:ext cx="34066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3280" y="6664320"/>
            <a:ext cx="4635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8240" y="6664320"/>
            <a:ext cx="34066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B73F-D1ED-475A-A92A-B40244E2FD16}" type="slidenum">
              <a:rPr b="0" lang="en-US" sz="14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4630400" cy="533520"/>
          </a:xfrm>
          <a:prstGeom prst="rect">
            <a:avLst/>
          </a:prstGeom>
          <a:solidFill>
            <a:srgbClr val="fcb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Vera Sans"/>
              </a:rPr>
              <a:t>Compile-time Typechecking for Custom Java Type Qual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Vera Sans"/>
              </a:rPr>
              <a:t>http://pag.csail.mit.edu/jsr3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1680"/>
            <a:ext cx="14630400" cy="268200"/>
          </a:xfrm>
          <a:prstGeom prst="rect">
            <a:avLst/>
          </a:prstGeom>
          <a:solidFill>
            <a:srgbClr val="fcbb0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Mahmood Ali, Matthew M. Papi,  and Michael D. Ernst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   Program Analysis Group, MIT CS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44520"/>
            <a:ext cx="48466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Type qualifi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Improv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Find bugs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in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Guarantee the </a:t>
            </a: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absence of errors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Aid compilers and analysis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Reduce the need for assertions and run-time ch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80" y="930240"/>
            <a:ext cx="4800600" cy="268200"/>
          </a:xfrm>
          <a:prstGeom prst="rect">
            <a:avLst/>
          </a:prstGeom>
          <a:solidFill>
            <a:srgbClr val="fcbb0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310760" y="1881360"/>
            <a:ext cx="1143000" cy="4572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javac par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input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10760" y="2557440"/>
            <a:ext cx="1143000" cy="4572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javac ca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typeche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plug-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117680" y="1952640"/>
            <a:ext cx="1143000" cy="457200"/>
          </a:xfrm>
          <a:prstGeom prst="flowChartProcess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javac finis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compilatio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writes class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117680" y="2557440"/>
            <a:ext cx="1143000" cy="457200"/>
          </a:xfrm>
          <a:prstGeom prst="flowChartProcess">
            <a:avLst/>
          </a:prstGeom>
          <a:solidFill>
            <a:srgbClr val="ff333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javac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error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term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5" idx="2"/>
            <a:endCxn id="46" idx="0"/>
          </p:cNvCxnSpPr>
          <p:nvPr/>
        </p:nvCxnSpPr>
        <p:spPr>
          <a:xfrm rot="16200000">
            <a:off x="10773000" y="2448000"/>
            <a:ext cx="21924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0" name=""/>
          <p:cNvCxnSpPr>
            <a:stCxn id="46" idx="3"/>
            <a:endCxn id="47" idx="1"/>
          </p:cNvCxnSpPr>
          <p:nvPr/>
        </p:nvCxnSpPr>
        <p:spPr>
          <a:xfrm flipV="1">
            <a:off x="11453760" y="2181240"/>
            <a:ext cx="1664280" cy="605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1" name=""/>
          <p:cNvCxnSpPr>
            <a:stCxn id="46" idx="3"/>
            <a:endCxn id="48" idx="1"/>
          </p:cNvCxnSpPr>
          <p:nvPr/>
        </p:nvCxnSpPr>
        <p:spPr>
          <a:xfrm>
            <a:off x="11453760" y="2786040"/>
            <a:ext cx="166428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1920680" y="1843200"/>
            <a:ext cx="1068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checker fi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no err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45880" y="2440080"/>
            <a:ext cx="1027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checker fi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err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27680" y="930240"/>
            <a:ext cx="9702720" cy="268200"/>
          </a:xfrm>
          <a:prstGeom prst="rect">
            <a:avLst/>
          </a:prstGeom>
          <a:solidFill>
            <a:srgbClr val="fcbb0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7040" y="1198440"/>
            <a:ext cx="50292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1. Allow programmers to </a:t>
            </a: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write type qual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1300" spc="-1" strike="noStrike">
                <a:solidFill>
                  <a:srgbClr val="ff6309"/>
                </a:solidFill>
                <a:latin typeface="Courier New"/>
              </a:rPr>
              <a:t>@NonNull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String&gt; na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sultSet executeQuery(</a:t>
            </a:r>
            <a:r>
              <a:rPr b="1" lang="en-US" sz="1300" spc="-1" strike="noStrike">
                <a:solidFill>
                  <a:srgbClr val="ff6309"/>
                </a:solidFill>
                <a:latin typeface="Courier New"/>
              </a:rPr>
              <a:t>@Untainted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String query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Planned for inclusion in Java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Backward-compatible: qualifiers 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Use it to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Folder&lt;F extends </a:t>
            </a:r>
            <a:r>
              <a:rPr b="1" lang="en-US" sz="1300" spc="-1" strike="noStrike">
                <a:solidFill>
                  <a:srgbClr val="ff6633"/>
                </a:solidFill>
                <a:latin typeface="Courier New"/>
              </a:rPr>
              <a:t>/*@Existing*/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File&gt; {...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UnmodifiableList&lt;T&gt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1" lang="en-US" sz="1300" spc="-1" strike="noStrike">
                <a:solidFill>
                  <a:srgbClr val="ff6309"/>
                </a:solidFill>
                <a:latin typeface="Courier New"/>
              </a:rPr>
              <a:t>/*@ReadOnly*/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List&lt;T&gt; { ...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833040" y="1193760"/>
            <a:ext cx="4779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2. Allow </a:t>
            </a: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compile-time verification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of qualifier seman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61280" y="3525840"/>
            <a:ext cx="7269120" cy="268200"/>
          </a:xfrm>
          <a:prstGeom prst="rect">
            <a:avLst/>
          </a:prstGeom>
          <a:solidFill>
            <a:srgbClr val="fcbb0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Using a Che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65960" y="3846600"/>
            <a:ext cx="3564000" cy="268200"/>
          </a:xfrm>
          <a:prstGeom prst="rect">
            <a:avLst/>
          </a:prstGeom>
          <a:solidFill>
            <a:srgbClr val="fcbb0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Vera Sans"/>
              </a:rPr>
              <a:t>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90440" y="3846600"/>
            <a:ext cx="3644640" cy="268200"/>
          </a:xfrm>
          <a:prstGeom prst="rect">
            <a:avLst/>
          </a:prstGeom>
          <a:solidFill>
            <a:srgbClr val="fcbb0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Vera Sans"/>
              </a:rPr>
              <a:t>Us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46880" y="5788080"/>
          <a:ext cx="3441600" cy="138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46880" y="5788080"/>
                    <a:ext cx="34416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307280" y="4141800"/>
            <a:ext cx="36212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Scales to &gt; 200, 000 L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Each checker found errors in every code base it ran on (including it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Few false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Nullness Tools compari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4KLOC cod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1280" y="6802560"/>
            <a:ext cx="3494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5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Ann. = annotations inserted by program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itstream Vera Sans"/>
              </a:rPr>
              <a:t>FP = false positives (suppressed by an annotation or asser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83800" y="1440000"/>
            <a:ext cx="4940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javac -processor NullnessChecker [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source fil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972800" y="4130640"/>
            <a:ext cx="365760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Programmers found the checkers easy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Tool support: javac, Ant, Eclipse, Net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Not too verb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@NonNull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: 1 per 7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@Interned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: 124 annotations in 220KL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revealed 11 b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Possible to annotate part of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Fewer annotations in new co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Case studies detai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actice Pluggable Types in Java,” ISST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080" y="3846600"/>
            <a:ext cx="3540240" cy="268200"/>
          </a:xfrm>
          <a:prstGeom prst="rect">
            <a:avLst/>
          </a:prstGeom>
          <a:solidFill>
            <a:srgbClr val="fcbb0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Vera Sans"/>
              </a:rPr>
              <a:t>Simple Che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680" y="4114800"/>
            <a:ext cx="3657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Example: Tainting checker checks usage of untrus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Complete check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@TypeAnno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@SubtypeOf(Unqualified.cla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@interface Untainted {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Simple checkers require no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declarative syntax for commo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Featurefu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Type Rules: assignments, overriding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Polymorphic (Java Gener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Flow-sensitive type qualifier i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Qualifier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Warning sup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11520" y="3849840"/>
            <a:ext cx="3657600" cy="268200"/>
          </a:xfrm>
          <a:prstGeom prst="rect">
            <a:avLst/>
          </a:prstGeom>
          <a:solidFill>
            <a:srgbClr val="fcbb0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Vera Sans"/>
              </a:rPr>
              <a:t>Sophisticated Che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25840"/>
            <a:ext cx="7323120" cy="268200"/>
          </a:xfrm>
          <a:prstGeom prst="rect">
            <a:avLst/>
          </a:prstGeom>
          <a:solidFill>
            <a:srgbClr val="fcbb0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Vera Sans"/>
              </a:rPr>
              <a:t>Writing a Che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95680" y="4114800"/>
            <a:ext cx="365760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880" bIns="45000" anchor="t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Checkers for expressive type systems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@NonNull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: nullnes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@Interned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: incorrect equality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@ReadOnly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: undesired side-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Sophisticated checkers are conc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Override a method for each special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Nullness: derefer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- Interning: equ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Publicly avail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http://pag.csail.mit.edu/jsr3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website includes all checke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itstream Vera Sans"/>
              </a:rPr>
              <a:t>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1:29:23Z</dcterms:created>
  <dc:creator>Matt Papi</dc:creator>
  <dc:description/>
  <dc:language>en-US</dc:language>
  <cp:lastModifiedBy>Mahmood Ali</cp:lastModifiedBy>
  <dcterms:modified xsi:type="dcterms:W3CDTF">2008-10-20T15:00:48Z</dcterms:modified>
  <cp:revision>161</cp:revision>
  <dc:subject/>
  <dc:title/>
</cp:coreProperties>
</file>