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E3E-537E-46EB-9D69-779E562F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797-A28F-428D-8740-BC223785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C65-17CA-48EF-8867-750B32B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C1C-DF0C-4666-AB54-96D35B4D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B25-CA2B-4745-8355-3B3E890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C8D-6E86-41BB-A9EB-FCAA9B3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CA0-C151-4DF0-90CE-44A1E2C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EBF-4045-40A4-A31D-578597A9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DEB-C387-4443-BEED-5887263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561-8AC1-48E0-8035-B51A5CC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52D-2119-42F8-AA0A-5E0388E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414-37A5-49E2-B68F-2D4F70E2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EC5-2EC3-4A66-9E60-998760B1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mo 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alable Pluggable Typ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Er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gstuhl Seminar “Scalable Program Analy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would you do differently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f you started over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ook a lot longer than I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extending the Jav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 was a pragmatic one, steered by existing problems:  This worked very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n’t propose a framework before writing several chec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n’t propose a syntax for expressing type systems before writing sev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expressiveness of checkers before concis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both soundness and practi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fixed the bugs that users cared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re better today (and javac license is b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avoid some dead ends and clean-room re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rief summar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gable type-checking for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and prevent more bugs than Jav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language support for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for writing type che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heckers written using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 enabled by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s about the typ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roblem does your tool 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analysis is the tool u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strengths/weaknesses of the tool (e.g. which language features are (not) support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: What and (qualitatively) how many user annotations does the tool need, if any, for (a) primary functionality, and (b) filtering false ala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tool interface with other to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what conditions is it available (free download, commercial produc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to write your tool from scratch again, what would you do differ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ich problem does your tool address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types prevent many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types don’t prev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wish to che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dereferences, equality errors, m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writers wish to write new che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ystem designers wish to experimentally evaluate thei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or checkers that can be expressed as a 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nalysis does the tool use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-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y type system that is an extension (refinement) of the Java typ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ol strengths/weaknes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or checkers that can be expressed as a 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all of Java, scales to &gt;200K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ilt-in analysis of reflection, native methods, unanalyz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checking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algorithms for doing so in Javari, non-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pported by the tool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Usability:  How many user annotations does the tool need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notations are required:  type checking, not type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un without anno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reference checker:  many false pos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bility checker:  reports no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egacy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reference checking:  1 per 75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checking:  1 per 2000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 checking:  1 per 50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 is spent on understanding/fixing code, not on writing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in new (better-designed)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tools exist for Javari, NonNull,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s annotations into source or .class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does your tool interface with other tools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Java tool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to javac compiler:  supply an additional command-line argument, output in sam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s are preserved in class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eckers written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ve:  meta-anno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al:  use Sun Tre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 integ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as an external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Beans support is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and IntelliJ support are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JastAdd, other tool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ailability of the tool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download (in source and b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ual, examples,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41:43Z</dcterms:created>
  <dc:creator>Michael Ernst</dc:creator>
  <dc:description/>
  <dc:language>en-US</dc:language>
  <cp:lastModifiedBy>Michael Ernst</cp:lastModifiedBy>
  <dcterms:modified xsi:type="dcterms:W3CDTF">2008-04-17T15:43:45Z</dcterms:modified>
  <cp:revision>16</cp:revision>
  <dc:subject/>
  <dc:title>Practical Pluggable Types</dc:title>
</cp:coreProperties>
</file>